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7F6-C6AF-4090-AD57-F8CAAC55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304-2A98-4B33-B7CC-D6BD473E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DAA-85DF-4222-BC5A-8FA8B5B6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D4D9-3E0B-482F-A14E-DD9A9E86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C80C-00B0-4A86-B632-498AE305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0B59-C75D-453A-90AD-34F629C7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8ADF-5F4B-4D06-B44E-7433FA1B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CAE4-4F66-448E-B6C4-AE6CF128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46F4-C16A-4D03-94D8-268C34CF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B7E2-A740-4B3B-B0E2-09F66893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54D5-A6A0-4158-AEDF-6F02FF29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758C-C5B5-4B04-B1AB-DE97CA4A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65C3-F466-4D8D-B74E-22E9D106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7791-1691-404B-A76D-7DB8BC43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6B4D-F371-48C5-9B0C-B6CAA5B2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8C7F-EBF9-4752-A18D-26FAB91B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7A65-D9B3-4A90-9C8A-D33C7EFC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BFF-CFD8-496B-9410-D05CF8FF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741-ECDF-41C5-8BE0-4AC6133F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12F-67C4-4925-AE38-A973C70D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A97-323F-41FA-AD5B-0B5B5DED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7D0-D8CC-41E9-89E4-7C3EEDE8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3CF-0835-4C14-8014-C73647A1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76C7-ED6F-47FB-A7C1-6FD3F72C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B527-2AAF-48E5-B769-8585937A80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16E0-2A81-4413-9AD3-3D299C4A0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Broadway"/>
              </a:rPr>
              <a:t>Mutations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nate"/>
              </a:rPr>
              <a:t>Section 12.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Senate"/>
              </a:rPr>
              <a:t>Albinism</a:t>
            </a:r>
            <a:r>
              <a:rPr b="0" lang="en-US" sz="7200" spc="-1" strike="noStrike">
                <a:solidFill>
                  <a:srgbClr val="e5ffff"/>
                </a:solidFill>
                <a:latin typeface="Senate"/>
              </a:rPr>
              <a:t>	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"/>
              </a:rPr>
              <a:t>Caused by a point mutatio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ate"/>
              </a:rPr>
              <a:t>Some examples…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520" y="376200"/>
            <a:ext cx="80769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001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47920" y="457200"/>
            <a:ext cx="647676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39152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Senate"/>
              </a:rPr>
              <a:t>Webbed feet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1417680"/>
            <a:ext cx="558180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Image Preview"/>
          <p:cNvPicPr/>
          <p:nvPr/>
        </p:nvPicPr>
        <p:blipFill>
          <a:blip r:embed="rId2"/>
          <a:stretch/>
        </p:blipFill>
        <p:spPr>
          <a:xfrm>
            <a:off x="685800" y="457200"/>
            <a:ext cx="76960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305920" cy="61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Senate"/>
              </a:rPr>
              <a:t>Mutations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changes in DNA sequence that affect genetic inform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Two Typ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Gene mutations = </a:t>
            </a:r>
            <a:r>
              <a:rPr b="0" lang="en-US" sz="3200" spc="-1" strike="noStrike">
                <a:solidFill>
                  <a:srgbClr val="ffffff"/>
                </a:solidFill>
                <a:latin typeface="Senate"/>
              </a:rPr>
              <a:t>changes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enate"/>
              </a:rPr>
              <a:t>single</a:t>
            </a:r>
            <a:r>
              <a:rPr b="0" lang="en-US" sz="3200" spc="-1" strike="noStrike">
                <a:solidFill>
                  <a:srgbClr val="ffffff"/>
                </a:solidFill>
                <a:latin typeface="Senate"/>
              </a:rPr>
              <a:t> ge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Chromosomal mutations = </a:t>
            </a:r>
            <a:r>
              <a:rPr b="0" lang="en-US" sz="3200" spc="-1" strike="noStrike">
                <a:solidFill>
                  <a:srgbClr val="ffffff"/>
                </a:solidFill>
                <a:latin typeface="Senate"/>
              </a:rPr>
              <a:t>changes whole chromos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76520" y="380880"/>
            <a:ext cx="59436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95280" y="457200"/>
            <a:ext cx="632484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Senate"/>
              </a:rPr>
              <a:t>Gene Mutation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Senate"/>
              </a:rPr>
              <a:t>Point mutation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Senate"/>
              </a:rPr>
              <a:t> affect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Senate"/>
              </a:rPr>
              <a:t>one</a:t>
            </a:r>
            <a:r>
              <a:rPr b="0" lang="en-US" sz="3600" spc="-1" strike="noStrike">
                <a:solidFill>
                  <a:srgbClr val="ffffff"/>
                </a:solidFill>
                <a:latin typeface="Senate"/>
              </a:rPr>
              <a:t> nucleot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nate"/>
              </a:rPr>
              <a:t>Occur at single point in DNA sequ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A C G T A </a:t>
            </a:r>
            <a:r>
              <a:rPr b="0" lang="en-US" sz="4000" spc="-1" strike="noStrike">
                <a:solidFill>
                  <a:srgbClr val="ffcc00"/>
                </a:solidFill>
                <a:latin typeface="Senate"/>
              </a:rPr>
              <a:t>C</a:t>
            </a: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 G A T T C 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A C G T A </a:t>
            </a:r>
            <a:r>
              <a:rPr b="0" lang="en-US" sz="4000" spc="-1" strike="noStrike">
                <a:solidFill>
                  <a:srgbClr val="ffcc00"/>
                </a:solidFill>
                <a:latin typeface="Senate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 G A T T C 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Senate"/>
              </a:rPr>
              <a:t>Gene Mutation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Senate"/>
              </a:rPr>
              <a:t>Frameshift mutation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 shifts in the “reading frame” of the genetic messag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A C </a:t>
            </a:r>
            <a:r>
              <a:rPr b="0" lang="en-US" sz="4000" spc="-1" strike="noStrike">
                <a:solidFill>
                  <a:srgbClr val="ffcc00"/>
                </a:solidFill>
                <a:latin typeface="Senate"/>
              </a:rPr>
              <a:t>G </a:t>
            </a: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T C C G A G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 ACG  TCC  GAG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A C     T C C G A G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Senate"/>
              </a:rPr>
              <a:t> ACT  CCG  A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Senate"/>
              </a:rPr>
              <a:t>Chromosomal Mutation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nate"/>
              </a:rPr>
              <a:t>Changes in the number or structure of chromosom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nate"/>
              </a:rPr>
              <a:t>Changes in locations in ge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nate"/>
              </a:rPr>
              <a:t>Number of copies of ge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5ffff"/>
                </a:solidFill>
                <a:latin typeface="Senate"/>
              </a:rPr>
              <a:t>Four Types: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Senate"/>
              </a:rPr>
              <a:t>Deletion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Senate"/>
              </a:rPr>
              <a:t> loss of all or part of chromoso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Senate"/>
              </a:rPr>
              <a:t>Duplication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Senate"/>
              </a:rPr>
              <a:t> segment of chromosome repeat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Senate"/>
              </a:rPr>
              <a:t>Inversion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Senate"/>
              </a:rPr>
              <a:t> part of chromosome becomes oriented in reverse dire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Senate"/>
              </a:rPr>
              <a:t>Translocation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Senate"/>
              </a:rPr>
              <a:t> parts of one chromosome breaks off and attaches to another chromoso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images.google.com/imgres?imgurl=http://staff.tuhsd.k12.az.us/gfoster/standard/dmutate.gif&amp;imgrefurl=http://staff.tuhsd.k12.az.us/gfoster/standard/bmut.htm&amp;h=165&amp;w=150&amp;sz=5&amp;hl=en&amp;start=13&amp;tbnid=H-8tJA61SjB1bM:&amp;tbnh=99&amp;tbnw=90&amp;prev=/images%3Fq3Dchromosome%2Bmutations%2Bdeletion%2B%26svnum%3D10%26hl%3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enate"/>
              </a:rPr>
              <a:t>Mutation in the hair ge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981080" y="2001960"/>
            <a:ext cx="541044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380520"/>
            <a:ext cx="8229600" cy="571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04920" y="507960"/>
            <a:ext cx="83055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29:02Z</dcterms:created>
  <dc:creator>NHS</dc:creator>
  <dc:description/>
  <dc:language>en-US</dc:language>
  <cp:lastModifiedBy>NHS</cp:lastModifiedBy>
  <dcterms:modified xsi:type="dcterms:W3CDTF">2007-02-06T13:33:20Z</dcterms:modified>
  <cp:revision>8</cp:revision>
  <dc:subject/>
  <dc:title>Mutations</dc:title>
</cp:coreProperties>
</file>